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27C4A-25FC-48A0-9EB3-808BD8B45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E92CE-6636-483D-BFF5-F46768CD4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C0CAF-1F97-48BB-AA05-CD29D968A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522FF-F040-4FCC-AC4C-0AFE78AAD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A72C7-2EBB-4433-B700-814BB2484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97FDF-20CA-458A-B46C-76A0DF8A4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A5650-17CE-4182-AD54-616F176EB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6AA2E-D2C6-4AEF-9B33-A5ABB0A9D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B4953-B059-46D8-B654-0E7315979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89A98-70CA-411A-8A8C-406C99CA9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233BD-8DB4-4476-89C1-10DA7C18B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D6281-18B9-4C84-8B5C-338D28E77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78B3A-35DE-4BED-924A-98D1E8864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57D42-FC25-4503-8985-3A0149FDF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FD168-3F0C-4EDC-8587-45DEE9688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B1CDC-3F25-4690-8067-35F29CCA6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547A9-A71B-4138-9E59-0815DD6C6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44CB0C-09E0-4760-AB3F-D59E888B3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8E219-F05D-479C-804A-C84A9E169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717DEC-E889-4EFB-8031-C992A15C8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A6CEB-A73C-4DC4-89A2-B3B7CE694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05291-BB5B-4260-B22E-AA937056A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CA74B-551B-42D2-98B8-B7178645B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518B7-4685-4C9D-881E-005C50F4F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9F5A5-B7A8-4A70-93A3-043585148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5E6BD-048E-4D36-ADD2-E6F6BCADE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7E08E-8356-44A8-9638-E504BCEDA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3737D-0140-4487-BE90-F0B8D6016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6C2CB5-3AD7-4A36-A9DB-8FBAFA5DC1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14FD2E-5DCF-4185-8A5A-BA60F9D111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684767-79AF-4BB6-B079-F5215E51B8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27370-836A-4159-8492-BAEDA2058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078563-18A8-4287-92C5-D1ECC2999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6539C-87B0-4CF2-84DC-95E6DD648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5CD71-32E1-4D5E-8C61-B091DE7932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96E98-D60D-4A47-94F6-3C6FC0A1E9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75E89-9E0E-4820-A369-59A7B4322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66841-686C-46E1-9928-9BA727296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E18B5-A616-4DAB-B9A9-140AEA762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5BA91-AFEF-4EDA-A7BB-809C0EC04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7CEC8-4571-4F07-94C8-3B14555DE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09A44B-04EB-4B5B-8AAB-754CA343C0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2A5961-3D86-4B7B-B77E-D2A47230CB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B0B3C-64C4-44F8-912A-2A370D709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C0026-406D-46CA-AD08-2F9F2E3F0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099B3-87A3-4A71-A67F-562DC2E8A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DAD1-DDA2-4E3C-82E4-A4EE8EB60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0D88B-DE04-437D-874E-0812E9AC6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1BC2-7F5B-46D5-A113-57742CAA150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Freeform 12"/>
            <p:cNvGrpSpPr/>
            <p:nvPr/>
          </p:nvGrpSpPr>
          <p:grpSpPr>
            <a:xfrm>
              <a:off x="-19080" y="248040"/>
              <a:ext cx="9181080" cy="565200"/>
              <a:chOff x="-19080" y="248040"/>
              <a:chExt cx="9181080" cy="565200"/>
            </a:xfrm>
          </p:grpSpPr>
          <p:pic>
            <p:nvPicPr>
              <p:cNvPr id="58" name="Freeform 12" descr=""/>
              <p:cNvPicPr/>
              <p:nvPr/>
            </p:nvPicPr>
            <p:blipFill>
              <a:blip r:embed="rId4"/>
              <a:stretch/>
            </p:blipFill>
            <p:spPr>
              <a:xfrm>
                <a:off x="-3240" y="248040"/>
                <a:ext cx="9165240" cy="565200"/>
              </a:xfrm>
              <a:prstGeom prst="rect">
                <a:avLst/>
              </a:prstGeom>
              <a:ln w="0">
                <a:noFill/>
              </a:ln>
            </p:spPr>
          </p:pic>
          <p:sp>
            <p:nvSpPr>
              <p:cNvPr id="5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A627-B192-4779-A4EE-A1DBB6A69E6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Freeform 12"/>
            <p:cNvGrpSpPr/>
            <p:nvPr/>
          </p:nvGrpSpPr>
          <p:grpSpPr>
            <a:xfrm>
              <a:off x="-19080" y="248040"/>
              <a:ext cx="9181080" cy="565200"/>
              <a:chOff x="-19080" y="248040"/>
              <a:chExt cx="9181080" cy="565200"/>
            </a:xfrm>
          </p:grpSpPr>
          <p:pic>
            <p:nvPicPr>
              <p:cNvPr id="109" name="Freeform 12" descr=""/>
              <p:cNvPicPr/>
              <p:nvPr/>
            </p:nvPicPr>
            <p:blipFill>
              <a:blip r:embed="rId4"/>
              <a:stretch/>
            </p:blipFill>
            <p:spPr>
              <a:xfrm>
                <a:off x="-3240" y="248040"/>
                <a:ext cx="9165240" cy="565200"/>
              </a:xfrm>
              <a:prstGeom prst="rect">
                <a:avLst/>
              </a:prstGeom>
              <a:ln w="0">
                <a:noFill/>
              </a:ln>
            </p:spPr>
          </p:pic>
          <p:sp>
            <p:nvSpPr>
              <p:cNvPr id="110"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91CE-E16C-4E3F-96EA-90B30D9BA12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4"/>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ight Triangle 1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6"/>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8"/>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7E6F-DF96-4F98-9A7E-8983CBB8317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a:t>
            </a:r>
            <a:r>
              <a:rPr b="0" lang="sr-RS" sz="2800" spc="-1" strike="noStrike">
                <a:solidFill>
                  <a:srgbClr val="04617b"/>
                </a:solidFill>
                <a:latin typeface="Calibri"/>
              </a:rPr>
              <a:t>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мет: Енглески језик</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авач: Душица Лазић</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7"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9"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1"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Restorative Dentistry</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storative dentistry encompasses a wide variety of clinical treatments to restore broken down diseased teeth back to their proper form, function and esthetic qualities, replace missing teeth and restore proper occlusion. Restorative dentistry can range from restoring a single tooth to full mouth reconstruction and rehabilitation involving most or all of the patient’s teeth, opening the patient’s bite and reestablishing the patient’s entire chewing motion to proper function. Restorative dentistry can achieve this through simple tooth recontouring or small direct restorations (fillings) to using a variety of indirect restorations such as inlays, onlays, crowns, fixed bridges, implant crowns, implant bridges and porcelain laminate veneers.</a:t>
            </a:r>
            <a:endParaRPr b="0" lang="en-US" sz="2000" spc="-1" strike="noStrike">
              <a:solidFill>
                <a:srgbClr val="000000"/>
              </a:solidFill>
              <a:latin typeface="Constantia"/>
            </a:endParaRPr>
          </a:p>
          <a:p>
            <a:pPr marL="270000" indent="-2700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rest of the lesson can be found in the textbook “English in Dentistry” by Natasa Milosavljevi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lay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ay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ow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nee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advertentl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mporizatio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ltiface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nslucenc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o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ntin</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MPORTANCE OF RESTORATIVE DENTIST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NTAL RESTORATIVE MATERIAL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RECT RESTORATIVE MATERIAL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DIRECT RESTORATIVE MATERIAL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List all  words that can be used to describe the following:</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abil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teri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stanc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mptom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lling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Make nouns from the following words and use each of them in sentences of your own:</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flic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curr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er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ced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l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st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nsi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evi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mporar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the verbs in brackets into The Future Tense or The Future Continuous Tense:</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n’t worry about the exam. I’m sure you (pass) i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ve got some incredible news. You never (believe) what has happene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morrow afternoon, we (do) a very important tes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n’t phone me between 8 and 9. We (have) dinner at that tim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hopes that he (succeed) in his research.</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subject she (teach) next autum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doesn’t feel well. He (stay) at home toda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five days, they (enjoy) their holiday abroa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the verbs in brackets into the required form:</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wish I (write) to him befor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agine if he (keep) on repeating the same sto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You talk as if you (know) every detail.</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ppose they (permit) such a th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looks as though we (have) an interesting topic to discus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wish I (visit) him there tomorrow.</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7646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ion:</a:t>
            </a:r>
            <a:endParaRPr b="0" lang="en-US" sz="28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nstantia"/>
              </a:rPr>
              <a:t>Материјали за пуњене кавитета, такозване пломбе, треба да имају особине да се у пљувачки не растварају, да на њих у устима не утичу киселине, које код кариозног процеса доводе до разарања зуба, да су одређене тврдоће и чврстоће, да задовољавају естетске захтеве, да имају добро рубно затварање, постојаност облика и запремине. Савремене беле пломбе последње генерације уз примену бонд технике задовољавају већину од ових захтева, те се најчешће препоручују.</a:t>
            </a:r>
            <a:endParaRPr b="0" lang="en-US" sz="2000" spc="-1" strike="noStrike">
              <a:solidFill>
                <a:srgbClr val="000000"/>
              </a:solidFill>
              <a:latin typeface="Constantia"/>
            </a:endParaRPr>
          </a:p>
          <a:p>
            <a:pPr marL="261720" indent="-26172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nstantia"/>
              </a:rPr>
              <a:t>Поједини састојци амалгама могу токсично да делују на људски организам. Поред сребра и калаја, жива је једини састојак амалгама који се практично може сматрати отровом. Међутим, пломбе  од племенитих метала, због чврстог везивања живе са тим металима, потпуно су безопасне.</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8T23:28:41Z</dcterms:modified>
  <cp:revision>25</cp:revision>
  <dc:subject/>
  <dc:title>Slide 1</dc:title>
</cp:coreProperties>
</file>